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0753-D219-4FA4-A0BF-FCFE612B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3AF-0E6F-4B8C-BCA1-AFFFE85E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BBF-6D09-4C3A-BA7F-FAD9089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5BE-F922-43E1-884E-C9FDA61E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844-FEA5-4D6A-AA1F-8676A34D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2D0-1414-4D00-B2C0-FBDA40F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1EF-AA25-430D-A959-1CBFFC5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4C2-8FCF-419B-BDAE-5DF5790A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7C0-A572-43C4-A559-AC5AA9C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385-3001-4D85-A5E0-249C421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136-9D02-4A39-8D12-0162B0E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D4D-EAFF-4CB2-AD53-027BEAB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D50-93B1-4E38-B35E-82C8152E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F73-20F9-4125-AAE0-836D79B8C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0271348/student_view0/chapter6/chapter_quiz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3-11-01T17:11:31Z</dcterms:modified>
  <cp:revision>125</cp:revision>
  <dc:subject/>
  <dc:title>Photosynthesis</dc:title>
</cp:coreProperties>
</file>